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65C4-D923-46A2-9E97-D8303822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704C-6692-4CAA-B43A-A344847E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33DB-FB6D-4BAB-88CD-8633CB16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1D6B-9A94-48CF-8FFE-6F9E5480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A5D3-49CE-4C6C-B0F2-382C8EC1D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5CC7-26D9-44DC-932C-A345B2B9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8EBA-F44F-4341-B618-84D660F5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5A1A-C708-48FE-8210-40F057C5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C8EC-C870-4EC4-9F2E-837D8355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EC76-F35D-412A-8A04-4E0B60CB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F052-4799-48BB-8222-6715E7A9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C9AF-D95D-454E-A90B-872E83E7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800D-C08F-4EEB-8256-C965EF4F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6B30-F909-4C46-9540-46D03D0A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C8E2-355D-49DF-9939-CB3CE731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883F-EF43-41A5-9557-6ACC3AC9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84D0-6E6C-407F-A9C7-B3CF1CB9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A419A-01DA-4E33-BA9F-DAAF2D8C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A1C48-A5DD-4C6E-9B44-B4E9EE07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8AEB1-FD7D-4D10-9A8A-FD104E39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82CE9-7134-400E-9BFC-C89B1288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54721-417D-4EAA-B050-BBE9A743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A320-E543-499F-9AF6-063DE980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13D83-7764-461F-8358-A5EEDF8E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A95C2-D7DD-44AE-89E2-37A70F99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C37D6-EEB0-4154-B035-733F5AD2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2738B-D228-465F-907B-55832015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D865E-6858-4E5B-8D4D-8D8EFD2D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4E6F2-E663-47AA-814E-35E855FB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17E43-1B32-4D0A-9743-C4EE0438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7847-38A5-459D-BA0F-55B6C3F0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CCC3-F21E-4A85-A466-2C9187F8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1170-36F1-4B8F-BEB7-E287280F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2C8E-AC48-472E-8943-66EE1C01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A94C-3E33-4CCC-8B38-0745FE6D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35AB-2112-4580-B8DD-DE8897BE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1994-A917-4979-8C72-7A8438D0812A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2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7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8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0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61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62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3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4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19" descr=""/>
          <p:cNvPicPr/>
          <p:nvPr/>
        </p:nvPicPr>
        <p:blipFill>
          <a:blip r:embed="rId2"/>
          <a:stretch/>
        </p:blipFill>
        <p:spPr>
          <a:xfrm>
            <a:off x="7251840" y="5388120"/>
            <a:ext cx="1065240" cy="1280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355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684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03c72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28D2-CC82-436B-BC30-C1052DB6F962}" type="slidenum">
              <a:rPr b="0" lang="zh-CN" sz="1000" spc="-1" strike="noStrike">
                <a:solidFill>
                  <a:srgbClr val="103c72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08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09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0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14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15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6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7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8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119" name="Picture 2" descr="logo%20eu"/>
          <p:cNvPicPr/>
          <p:nvPr/>
        </p:nvPicPr>
        <p:blipFill>
          <a:blip r:embed="rId2"/>
          <a:stretch/>
        </p:blipFill>
        <p:spPr>
          <a:xfrm>
            <a:off x="647640" y="723960"/>
            <a:ext cx="116856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2019240" y="665280"/>
            <a:ext cx="615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Regional Food Security Seminar Asi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Vientiane, Laos 21st – 25th June 2010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BD1B-6BDD-49B9-9574-44F3BF757416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55F6-3581-473C-B5E0-9DD0AFF6DB17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ZoneTexte 6"/>
          <p:cNvSpPr/>
          <p:nvPr/>
        </p:nvSpPr>
        <p:spPr>
          <a:xfrm>
            <a:off x="393840" y="2031840"/>
            <a:ext cx="797544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aa1f1d"/>
                </a:solidFill>
                <a:latin typeface="Verdana"/>
                <a:ea typeface="Angsana New"/>
              </a:rPr>
              <a:t>FOOD SECURITY IN INDONESIA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  <a:ea typeface="Angsana New"/>
              </a:rPr>
              <a:t>Overview - Indonesia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260 million people living in more than 1900 island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About 60% of them in rural area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Very decentralized system in 440 districts, 33 provinc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MDGs: only 3 targets are off tracks: Maternal mortality, HIV infection and forestation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overty rate declines fr 35% in 97 to below 15% in 2009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Malnutrition among children declines from 8% to 2.1% in 2009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  <a:ea typeface="Angsana New"/>
              </a:rPr>
              <a:t>Food Security &amp; Poverty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Cordia New"/>
              </a:rPr>
              <a:t>Surplus of rice production in last 2 yrs after 7 year  net importer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Cordia New"/>
              </a:rPr>
              <a:t>Production mainly in Java, Sumatera, Sulawesi – other islands are dependent to shipping, waves etc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  <a:ea typeface="Cordia New"/>
              </a:rPr>
              <a:t>Inequalities among districts in terms of no. of poor people, availability of natural resources, fiscal capacity etc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  <a:ea typeface="Angsana New"/>
              </a:rPr>
              <a:t>Nutrition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High prevalence of stunting nationwid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High prevalence of iron deficiencies, and iodine and vit. A in some reg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ocket of malnutrition and hunger in some districts (East and West Nusatenggara and Papua provinces) due to longer dry seasons (drought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No EC funded programme but the regional on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  <a:ea typeface="Angsana New"/>
              </a:rPr>
              <a:t>Social protection programme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ountry wide cash transfer to poor families in the last 5 yrs – now moves to Conditional cash transfer focused on health &amp; education indicators – piloted in 6 provinc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ountry wide CDD programme: USD 100,000/sub-district for basic infrastructure (irrigation, roads, health facilities etc.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ubsidized rice distribution to poor families in priority provinces in the last 5 yr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ountry wide health insurance and scholarship for poor famili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EC provide TA to CDD and CC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4:28:50Z</dcterms:created>
  <dc:creator>newmajo</dc:creator>
  <dc:description/>
  <dc:language>en-US</dc:language>
  <cp:lastModifiedBy>albyflores_v</cp:lastModifiedBy>
  <cp:lastPrinted>2003-11-06T16:40:02Z</cp:lastPrinted>
  <dcterms:modified xsi:type="dcterms:W3CDTF">2010-07-18T21:46:52Z</dcterms:modified>
  <cp:revision>908</cp:revision>
  <dc:subject/>
  <dc:title>No Slide Title</dc:title>
</cp:coreProperties>
</file>